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7B3-968A-41A2-A916-94AEAAA2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F2D-7710-4A77-A4FD-A30F8EA2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123-C855-46D8-BF5B-12E5483B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BFD-3AC6-4BFD-8815-3BAECDD5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083-71BA-4007-B7A3-BA2568C8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E53-DEC5-4A65-B1A6-37A9E414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21D-5F05-42BC-B6B2-8B5E0EFC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802-F832-41DC-854B-AFDA807F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590-D899-4E7A-A522-5B3ABEC4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AC4-BA8F-48A8-8871-A3D938D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330-0C8E-47DA-AC86-A9B48A5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B25-F398-45FE-BC55-91514992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EC39-34C7-43C7-B0E0-2CA5D292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ssouri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missouri/" TargetMode="External"/><Relationship Id="rId4" Type="http://schemas.openxmlformats.org/officeDocument/2006/relationships/hyperlink" Target="http://www.enchantedlearning.com/usa/flags/missouri/missouriflag.shtml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enchantedlearning.com/usa/states/missouri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91012.html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theus50.com/missouri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Easternbluebird.shtml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enchantedlearning.com/usa/states/missouri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enchantedlearning.com/usa/states/missouri/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525312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2666880"/>
            <a:ext cx="5638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ssou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79132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, missouri,4/4/12,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5529240"/>
            <a:ext cx="2438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Jeff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5,595,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Aug 10,18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: The welfare of the people shall be suprem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Show m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Ca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Blue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Missouri: Wal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Algonquian (river) may (muddy ri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biggest state in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fish: Channel Cat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mineral: Ga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2428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34340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1/12, Missouri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720800"/>
            <a:ext cx="4419720" cy="257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42670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state flag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 Saint Louis Arch"/>
          <p:cNvPicPr/>
          <p:nvPr/>
        </p:nvPicPr>
        <p:blipFill>
          <a:blip r:embed="rId1"/>
          <a:stretch/>
        </p:blipFill>
        <p:spPr>
          <a:xfrm>
            <a:off x="0" y="0"/>
            <a:ext cx="5105520" cy="3560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3581280"/>
            <a:ext cx="3200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 form, 3/22/12, St. Louis Arch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101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Missouri State collage of images."/>
          <p:cNvPicPr/>
          <p:nvPr/>
        </p:nvPicPr>
        <p:blipFill>
          <a:blip r:embed="rId3"/>
          <a:srcRect l="0" t="6395" r="81380" b="0"/>
          <a:stretch/>
        </p:blipFill>
        <p:spPr>
          <a:xfrm>
            <a:off x="5562720" y="304920"/>
            <a:ext cx="2133360" cy="416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91320" y="4191120"/>
            <a:ext cx="2209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us50, 3/22/12, St. Louis Arch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us50.com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819520" cy="258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514600"/>
            <a:ext cx="304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blue bird/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mule"/>
          <p:cNvPicPr/>
          <p:nvPr/>
        </p:nvPicPr>
        <p:blipFill>
          <a:blip r:embed="rId4"/>
          <a:stretch/>
        </p:blipFill>
        <p:spPr>
          <a:xfrm>
            <a:off x="6172200" y="0"/>
            <a:ext cx="251460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48520" y="1523880"/>
            <a:ext cx="2666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Missouri mule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733920" y="350532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29000" y="5254560"/>
            <a:ext cx="3352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honey bee, 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fiddle"/>
          <p:cNvPicPr/>
          <p:nvPr/>
        </p:nvPicPr>
        <p:blipFill>
          <a:blip r:embed="rId7"/>
          <a:stretch/>
        </p:blipFill>
        <p:spPr>
          <a:xfrm>
            <a:off x="304920" y="4114800"/>
            <a:ext cx="1981080" cy="111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5181480"/>
            <a:ext cx="2590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3/22/12, fiddle, 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5Z</dcterms:created>
  <dc:creator>install</dc:creator>
  <dc:description/>
  <dc:language>en-US</dc:language>
  <cp:lastModifiedBy>install</cp:lastModifiedBy>
  <dcterms:modified xsi:type="dcterms:W3CDTF">2012-04-16T13:05:04Z</dcterms:modified>
  <cp:revision>22</cp:revision>
  <dc:subject/>
  <dc:title>Slide 1</dc:title>
</cp:coreProperties>
</file>